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png" ContentType="image/png"/>
  <Override PartName="/ppt/media/image37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39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1C04-2526-4A83-8B84-E295E8BFF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F174-DB6E-49C8-A940-7329E55AD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8025-CA89-4BAE-84EA-551CA2488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BF4F-3455-40A8-A347-277121327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0EBF-8AFD-4B6C-81F7-003A2650A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3A90-B517-4053-9123-2EF65E4DE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85C-1FBF-434E-B049-62CAABCD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7E8-2AF9-4C3A-9226-5BA1F28C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3D6-129A-4224-9DF5-33EA70A9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A8A-4B2C-4459-B8BA-7BF2B7CC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92D3-6E2D-47AF-A518-F34B1A77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B205-6F7D-4B24-B8B6-15E62A2F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39C9-8A52-4B5A-84E7-B1916AF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FD3B-0282-4193-9A64-21E0976C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36A1-1539-4B7A-97DA-7D5F8618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1910-3B83-4170-AB26-8B37F6EA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5239-74B3-47AA-8F34-FF40159C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0B1-FF8B-4AA6-BD22-413D2A91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8B03-B67D-4A58-9C79-8DD3A10F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85D2-134E-435B-B498-FE88B17B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73F1-D669-403F-A2DE-3CAE6662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F036-D0EC-469D-9645-1A51FCFC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C63E-63B9-43AF-9114-E31D10D5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EEE3-CE9C-4ACE-B4B6-2876F3F3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82B49-BFCC-42A1-A411-504281AA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53C63-1AAF-4CA1-B385-D102C516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4F32B-F3FA-47B0-A552-0E3854F9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FD50D-E87D-4FF9-8C56-CD59348B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812-1C9A-4EE8-9AF5-875506C7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4B6B-992B-419E-9A16-5B90A6CA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39FD-2467-4626-ABD4-D680F2D4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C3EC-FA97-4231-A50B-29F62F75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28D8-7A07-4A90-8FE4-CDCCE7AA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6DBFF-A6E3-43D5-81EC-7F8981C0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303E-3AD0-4F3F-9E67-3FC86FA3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0068-7E03-4AD5-A3A5-C14CA792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AB7C0-B722-4728-B85E-47DC8661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FC0BC-6BA2-477A-8851-C0B85940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63E65-EB85-4DCC-A992-9EA1642A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1E3-6E79-433C-9D13-11169D43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8EDC-A148-4B43-84A1-E7751FF8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8DD00-0B7E-42AB-BDBC-9910EBC4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8AAA-9E46-47DB-9B4B-ECA13872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15575-3F20-44DA-B7BB-06EEE6F3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8C45-0B15-44B4-8122-90341AF8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1FF97-D9EE-400B-9193-1055513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EAB68-6254-46CF-8E37-C6B69041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75CD1-47EF-4ED0-9D58-DF5DEE50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5EA29-29FF-4C76-A0CF-00BA2F75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8D9-D226-4574-AF7B-D23DA91B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95A-249A-4ADF-874B-50A52C69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0D4-8EF0-481C-A3B4-855F2F37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2BC-ADEA-4A0C-8146-20F65AE4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114-DBFF-433C-9570-75AF47DE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6847-CAA2-4C4D-889F-AA9FD56E4609}" type="slidenum"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73D6-7014-4FD8-9CC6-2296E41AB566}" type="slidenum"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7799-CC3B-4281-9482-7F7290DC2D49}" type="slidenum"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086B-BC9A-4BC3-995A-E5329B5B2394}" type="slidenum"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8540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pter 7: Warm-Up 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s the plasma membrane symmetrical?  Why or why not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at types of substances cross the membrane the fastest? Why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xplain the concept of water potential. (Hint: Refer to Lab 1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Fluid Mosaic Mode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3" descr="07_03FluidMosaicModel-L.jpg"/>
          <p:cNvPicPr/>
          <p:nvPr/>
        </p:nvPicPr>
        <p:blipFill>
          <a:blip r:embed="rId1"/>
          <a:stretch/>
        </p:blipFill>
        <p:spPr>
          <a:xfrm>
            <a:off x="1149480" y="2185920"/>
            <a:ext cx="68450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07_05PlasmaMembrane-L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0432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Membrane fluidit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51920" y="1534680"/>
            <a:ext cx="495324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Low temp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phospholipids w/unsaturated tails (kinks prevent close pack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holestero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sists changes b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mit fluidity at high tem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nder close packing at low tem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aptations: bacteria in hot springs (unusual lipids); winter wheat (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unsaturated phospholipid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4" descr="07_08MembraneFluidFactor-L.jpg"/>
          <p:cNvPicPr/>
          <p:nvPr/>
        </p:nvPicPr>
        <p:blipFill>
          <a:blip r:embed="rId1"/>
          <a:stretch/>
        </p:blipFill>
        <p:spPr>
          <a:xfrm>
            <a:off x="5105520" y="1887480"/>
            <a:ext cx="40384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embrane Prote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6348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617b"/>
                </a:solidFill>
                <a:uFillTx/>
                <a:latin typeface="Constantia"/>
              </a:rPr>
              <a:t>Integral Protei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56348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617b"/>
                </a:solidFill>
                <a:uFillTx/>
                <a:latin typeface="Constantia"/>
              </a:rPr>
              <a:t>Peripheral Protei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2172960"/>
            <a:ext cx="4040280" cy="460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Embedd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d by freeze fra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membrane with hydrophilic heads/tails and hydrophobic midd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44720" y="2172960"/>
            <a:ext cx="4041720" cy="460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or cytoplasmic sides of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 embedd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d in place by the cytoskeleton or EC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stronger frame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31"/>
          <p:cNvSpPr/>
          <p:nvPr/>
        </p:nvSpPr>
        <p:spPr>
          <a:xfrm>
            <a:off x="838080" y="594360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l &amp; Peripheral protei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03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25360" y="762120"/>
            <a:ext cx="8693280" cy="1066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07_09TransmembProtein-L.jpg"/>
          <p:cNvPicPr/>
          <p:nvPr/>
        </p:nvPicPr>
        <p:blipFill>
          <a:blip r:embed="rId2"/>
          <a:stretch/>
        </p:blipFill>
        <p:spPr>
          <a:xfrm>
            <a:off x="2286000" y="1595520"/>
            <a:ext cx="4038480" cy="4981320"/>
          </a:xfrm>
          <a:prstGeom prst="rect">
            <a:avLst/>
          </a:prstGeom>
          <a:ln w="0">
            <a:noFill/>
          </a:ln>
        </p:spPr>
      </p:pic>
      <p:sp>
        <p:nvSpPr>
          <p:cNvPr id="237" name="Right Arrow 8"/>
          <p:cNvSpPr/>
          <p:nvPr/>
        </p:nvSpPr>
        <p:spPr>
          <a:xfrm>
            <a:off x="2590920" y="3657600"/>
            <a:ext cx="244476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ight Arrow 9"/>
          <p:cNvSpPr/>
          <p:nvPr/>
        </p:nvSpPr>
        <p:spPr>
          <a:xfrm rot="12025200">
            <a:off x="4976280" y="2985840"/>
            <a:ext cx="1919520" cy="485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690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ight Arrow 10"/>
          <p:cNvSpPr/>
          <p:nvPr/>
        </p:nvSpPr>
        <p:spPr>
          <a:xfrm rot="9754800">
            <a:off x="4981320" y="4576680"/>
            <a:ext cx="1931760" cy="4860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690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0" y="34290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Hydrophobic inter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6934320" y="35053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009"/>
                </a:solidFill>
                <a:latin typeface="Times New Roman"/>
              </a:rPr>
              <a:t>Hydrophilic end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7_10_MembProteinFunction-L.jpg"/>
          <p:cNvPicPr/>
          <p:nvPr/>
        </p:nvPicPr>
        <p:blipFill>
          <a:blip r:embed="rId1"/>
          <a:stretch/>
        </p:blipFill>
        <p:spPr>
          <a:xfrm>
            <a:off x="2617920" y="274680"/>
            <a:ext cx="6449760" cy="65833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0" y="2209680"/>
            <a:ext cx="266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me functions of membrane protei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87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un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cell-cell recognition; developing organis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lycolipids, glyco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blood transfusions are type-specif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1"/>
          <a:stretch/>
        </p:blipFill>
        <p:spPr>
          <a:xfrm>
            <a:off x="1143000" y="32940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ynthesis and sidedness of membran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Picture 3" descr="07_12MembraneSynthesis-L.jpg"/>
          <p:cNvPicPr/>
          <p:nvPr/>
        </p:nvPicPr>
        <p:blipFill>
          <a:blip r:embed="rId1"/>
          <a:stretch/>
        </p:blipFill>
        <p:spPr>
          <a:xfrm>
            <a:off x="762120" y="990720"/>
            <a:ext cx="747396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lective Permeabi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69009"/>
                </a:solidFill>
                <a:uFillTx/>
                <a:latin typeface="Constantia"/>
              </a:rPr>
              <a:t>Small molecules 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(polar or nonpolar) cross easily (hydrocarbons, hydrophobic molecules, CO</a:t>
            </a:r>
            <a:r>
              <a:rPr b="0" lang="en-US" sz="2600" spc="-1" strike="noStrike" baseline="-25000">
                <a:solidFill>
                  <a:srgbClr val="069009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, O</a:t>
            </a:r>
            <a:r>
              <a:rPr b="0" lang="en-US" sz="2600" spc="-1" strike="noStrike" baseline="-25000">
                <a:solidFill>
                  <a:srgbClr val="069009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Hydrophobic core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prevents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 passage of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ions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,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large polar molecu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0980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pter 7: Warm-Up 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at are glycoproteins and glycolipids and what is their function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ow d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hydrophilic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substances cross the cell membrane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y does water move through the bi-layer quickly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3684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ENERGY needed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Diffusion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2060"/>
                </a:solidFill>
                <a:latin typeface="Constantia"/>
              </a:rPr>
              <a:t>down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en-US" sz="2600" spc="-1" strike="noStrike" u="sng">
                <a:solidFill>
                  <a:srgbClr val="55a839"/>
                </a:solidFill>
                <a:uFillTx/>
                <a:latin typeface="Constantia"/>
              </a:rPr>
              <a:t>concentration gradient</a:t>
            </a:r>
            <a:r>
              <a:rPr b="0" lang="en-US" sz="2600" spc="-1" strike="noStrike">
                <a:solidFill>
                  <a:srgbClr val="55a83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high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ow concentr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hydrocarbons, 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3" descr="07_13aDiffusionMembrane-L.jpg"/>
          <p:cNvPicPr/>
          <p:nvPr/>
        </p:nvPicPr>
        <p:blipFill>
          <a:blip r:embed="rId1"/>
          <a:stretch/>
        </p:blipFill>
        <p:spPr>
          <a:xfrm>
            <a:off x="1447920" y="3583080"/>
            <a:ext cx="64008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Content Placeholder 3" descr="07_13bDiffusionMembrane-L.jpg"/>
          <p:cNvPicPr/>
          <p:nvPr/>
        </p:nvPicPr>
        <p:blipFill>
          <a:blip r:embed="rId1"/>
          <a:stretch/>
        </p:blipFill>
        <p:spPr>
          <a:xfrm>
            <a:off x="457200" y="2111400"/>
            <a:ext cx="82296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3" descr="07_14Osmosis-L.jpg"/>
          <p:cNvPicPr/>
          <p:nvPr/>
        </p:nvPicPr>
        <p:blipFill>
          <a:blip r:embed="rId1"/>
          <a:stretch/>
        </p:blipFill>
        <p:spPr>
          <a:xfrm>
            <a:off x="2590920" y="290520"/>
            <a:ext cx="6172200" cy="6289560"/>
          </a:xfrm>
          <a:prstGeom prst="rect">
            <a:avLst/>
          </a:prstGeom>
          <a:ln w="0">
            <a:noFill/>
          </a:ln>
        </p:spPr>
      </p:pic>
      <p:pic>
        <p:nvPicPr>
          <p:cNvPr id="257" name="Title 5" descr=""/>
          <p:cNvPicPr/>
          <p:nvPr/>
        </p:nvPicPr>
        <p:blipFill>
          <a:blip r:embed="rId2"/>
          <a:stretch/>
        </p:blipFill>
        <p:spPr>
          <a:xfrm>
            <a:off x="407880" y="4022640"/>
            <a:ext cx="35118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219240" y="36360"/>
            <a:ext cx="8656560" cy="1390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07_15WaterBalance-L.jpg"/>
          <p:cNvPicPr/>
          <p:nvPr/>
        </p:nvPicPr>
        <p:blipFill>
          <a:blip r:embed="rId2"/>
          <a:stretch/>
        </p:blipFill>
        <p:spPr>
          <a:xfrm>
            <a:off x="685800" y="1384200"/>
            <a:ext cx="79344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smoreg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12800"/>
            <a:ext cx="845820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rol solute &amp; water bal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ntractile vacuo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lge pump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orces out fresh water as it enters by osm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paramecium caudatum – freshwater prot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5" descr="07_16ContractileVacuole-L.jpg"/>
          <p:cNvPicPr/>
          <p:nvPr/>
        </p:nvPicPr>
        <p:blipFill>
          <a:blip r:embed="rId1"/>
          <a:stretch/>
        </p:blipFill>
        <p:spPr>
          <a:xfrm>
            <a:off x="1219320" y="3503520"/>
            <a:ext cx="6858000" cy="32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07_UN01Summary_C3-L.jpg"/>
          <p:cNvPicPr/>
          <p:nvPr/>
        </p:nvPicPr>
        <p:blipFill>
          <a:blip r:embed="rId1"/>
          <a:stretch/>
        </p:blipFill>
        <p:spPr>
          <a:xfrm>
            <a:off x="4191120" y="2743200"/>
            <a:ext cx="4800600" cy="40402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cilitated Diff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600" y="1828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onstantia"/>
              </a:rPr>
              <a:t>Transport proteins</a:t>
            </a: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channel or carrier proteins) hel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hydrophilic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substance cro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304920" y="2819520"/>
            <a:ext cx="487656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1) Provide hydrophilic channel or (2) loosely bind/carry molecule acros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ions, polar molecules 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, glucose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773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2060"/>
                </a:solidFill>
                <a:uFillTx/>
                <a:latin typeface="Calibri"/>
              </a:rPr>
              <a:t>Aquaporin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: channel protein that allows passage of H</a:t>
            </a:r>
            <a:r>
              <a:rPr b="0" lang="en-US" sz="3600" spc="-1" strike="noStrike" baseline="-25000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4" descr="http://www.bionaid.us/aquaporin.jpg"/>
          <p:cNvPicPr/>
          <p:nvPr/>
        </p:nvPicPr>
        <p:blipFill>
          <a:blip r:embed="rId1"/>
          <a:stretch/>
        </p:blipFill>
        <p:spPr>
          <a:xfrm>
            <a:off x="4572000" y="2895480"/>
            <a:ext cx="3686040" cy="3114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http://virtuallaboratory.colorado.edu/BioFun-Support/AllGraphics/Aquaporin%20and%20Water.jpg"/>
          <p:cNvPicPr/>
          <p:nvPr/>
        </p:nvPicPr>
        <p:blipFill>
          <a:blip r:embed="rId2"/>
          <a:stretch/>
        </p:blipFill>
        <p:spPr>
          <a:xfrm>
            <a:off x="1066680" y="2666880"/>
            <a:ext cx="25146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2" descr=""/>
          <p:cNvPicPr/>
          <p:nvPr/>
        </p:nvPicPr>
        <p:blipFill>
          <a:blip r:embed="rId1"/>
          <a:stretch/>
        </p:blipFill>
        <p:spPr>
          <a:xfrm>
            <a:off x="182520" y="1200240"/>
            <a:ext cx="8583480" cy="1208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http://www.prism.gatech.edu/~gh19/b1510/gluctran.gif"/>
          <p:cNvPicPr/>
          <p:nvPr/>
        </p:nvPicPr>
        <p:blipFill>
          <a:blip r:embed="rId2"/>
          <a:stretch/>
        </p:blipFill>
        <p:spPr>
          <a:xfrm>
            <a:off x="609480" y="2590920"/>
            <a:ext cx="76964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ct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934640"/>
            <a:ext cx="5791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NERG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T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 transport substances </a:t>
            </a:r>
            <a:r>
              <a:rPr b="1" i="1" lang="en-US" sz="2600" spc="-1" strike="noStrike">
                <a:solidFill>
                  <a:srgbClr val="002060"/>
                </a:solidFill>
                <a:latin typeface="Constantia"/>
              </a:rPr>
              <a:t>against</a:t>
            </a:r>
            <a:r>
              <a:rPr b="0" lang="en-US" sz="2600" spc="-1" strike="noStrike">
                <a:solidFill>
                  <a:srgbClr val="9900cc"/>
                </a:solidFill>
                <a:latin typeface="Constantia"/>
              </a:rPr>
              <a:t> </a:t>
            </a:r>
            <a:r>
              <a:rPr b="0" lang="en-US" sz="2600" spc="-1" strike="noStrike" u="sng">
                <a:solidFill>
                  <a:srgbClr val="069009"/>
                </a:solidFill>
                <a:uFillTx/>
                <a:latin typeface="Constantia"/>
              </a:rPr>
              <a:t>concentration gradient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low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high con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N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ump, proton pum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4" descr="07_UN02Summary_C4-L.jpg"/>
          <p:cNvPicPr/>
          <p:nvPr/>
        </p:nvPicPr>
        <p:blipFill>
          <a:blip r:embed="rId1"/>
          <a:stretch/>
        </p:blipFill>
        <p:spPr>
          <a:xfrm>
            <a:off x="6400800" y="1600200"/>
            <a:ext cx="221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99"/>
                </a:solidFill>
                <a:uFillTx/>
                <a:latin typeface="Calibri"/>
              </a:rPr>
              <a:t>Electrogenic Pumps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: generate voltage across membra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Na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Constantia"/>
              </a:rPr>
              <a:t>+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/K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Constantia"/>
              </a:rPr>
              <a:t>+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 Pum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97000" y="168084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Proton Pum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2335320"/>
            <a:ext cx="4040280" cy="384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mp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ut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to c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rve transmi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797000" y="2335320"/>
            <a:ext cx="4041720" cy="384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sh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across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g. mitochondria (ATP productio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6" descr="07_18SodiumPotassPump_6-L.jpg"/>
          <p:cNvPicPr/>
          <p:nvPr/>
        </p:nvPicPr>
        <p:blipFill>
          <a:blip r:embed="rId1"/>
          <a:stretch/>
        </p:blipFill>
        <p:spPr>
          <a:xfrm>
            <a:off x="152280" y="3429000"/>
            <a:ext cx="4502160" cy="3271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07_20ProtonPump-L.jpg"/>
          <p:cNvPicPr/>
          <p:nvPr/>
        </p:nvPicPr>
        <p:blipFill>
          <a:blip r:embed="rId2"/>
          <a:stretch/>
        </p:blipFill>
        <p:spPr>
          <a:xfrm>
            <a:off x="5022720" y="4024440"/>
            <a:ext cx="38926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pter 7: Warm-Up 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lain membrane potential and how it affects the ce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a U-tube, side A has 4 M glucose and 2 M NaCl. Side B has 2M glucose and 6 M NaCl. Initially, side A is ____ to side B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side B is ____ to side A.  What happens if the membrane is permeable to both solutes?  Only permeable to water and NaCl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Calibri"/>
              </a:rPr>
              <a:t>Cotransport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: membrane protein enables 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ownhill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diffusion of one solute to drive 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phill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transport of oth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28240" y="1905120"/>
            <a:ext cx="89154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g. sucrose-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cotransporter (sugar-loading in plant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8" descr="07_21Cotransport-L.jpg"/>
          <p:cNvPicPr/>
          <p:nvPr/>
        </p:nvPicPr>
        <p:blipFill>
          <a:blip r:embed="rId1"/>
          <a:stretch/>
        </p:blipFill>
        <p:spPr>
          <a:xfrm>
            <a:off x="1981080" y="2494080"/>
            <a:ext cx="56390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Passive vs. Active Transpor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11276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ttle or no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ow concent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69009"/>
                </a:solidFill>
                <a:latin typeface="Constantia"/>
              </a:rPr>
              <a:t>DOW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concentration grad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diffusion, osmosis, facilitated diffusion (w/transport prote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52520" y="1112760"/>
            <a:ext cx="40388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 Energy (AT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w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high concent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AGAIN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concentration grad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pumps, exo/endocyt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8" name="Right Arrow 2"/>
          <p:cNvGrpSpPr/>
          <p:nvPr/>
        </p:nvGrpSpPr>
        <p:grpSpPr>
          <a:xfrm>
            <a:off x="1532520" y="4998960"/>
            <a:ext cx="1692000" cy="1633680"/>
            <a:chOff x="1532520" y="4998960"/>
            <a:chExt cx="1692000" cy="1633680"/>
          </a:xfrm>
        </p:grpSpPr>
        <p:pic>
          <p:nvPicPr>
            <p:cNvPr id="289" name="Right Arrow 2" descr=""/>
            <p:cNvPicPr/>
            <p:nvPr/>
          </p:nvPicPr>
          <p:blipFill>
            <a:blip r:embed="rId1"/>
            <a:stretch/>
          </p:blipFill>
          <p:spPr>
            <a:xfrm>
              <a:off x="1532520" y="4998960"/>
              <a:ext cx="169200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446800">
              <a:off x="1468080" y="5617800"/>
              <a:ext cx="180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Right Arrow 9"/>
          <p:cNvGrpSpPr/>
          <p:nvPr/>
        </p:nvGrpSpPr>
        <p:grpSpPr>
          <a:xfrm>
            <a:off x="6249600" y="4973760"/>
            <a:ext cx="1585800" cy="1512720"/>
            <a:chOff x="6249600" y="4973760"/>
            <a:chExt cx="1585800" cy="1512720"/>
          </a:xfrm>
        </p:grpSpPr>
        <p:pic>
          <p:nvPicPr>
            <p:cNvPr id="292" name="Right Arrow 9" descr=""/>
            <p:cNvPicPr/>
            <p:nvPr/>
          </p:nvPicPr>
          <p:blipFill>
            <a:blip r:embed="rId2"/>
            <a:stretch/>
          </p:blipFill>
          <p:spPr>
            <a:xfrm>
              <a:off x="6249600" y="4973760"/>
              <a:ext cx="15858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 rot="19144800">
              <a:off x="6205680" y="5546880"/>
              <a:ext cx="1658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07_19PassiveActiveTrans-L.jpg"/>
          <p:cNvPicPr/>
          <p:nvPr/>
        </p:nvPicPr>
        <p:blipFill>
          <a:blip r:embed="rId1"/>
          <a:stretch/>
        </p:blipFill>
        <p:spPr>
          <a:xfrm>
            <a:off x="533520" y="282600"/>
            <a:ext cx="80769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Bulk Transpor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752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ansport of proteins, polysaccharides, large molecu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2" descr="http://4.bp.blogspot.com/_rBYpndaJ_ak/TLZLaM4OCQI/AAAAAAAAARU/8iax7xfb0F4/s1600/Endocytosis+and+Exocytosis.jpg"/>
          <p:cNvPicPr/>
          <p:nvPr/>
        </p:nvPicPr>
        <p:blipFill>
          <a:blip r:embed="rId1"/>
          <a:stretch/>
        </p:blipFill>
        <p:spPr>
          <a:xfrm>
            <a:off x="304920" y="2886120"/>
            <a:ext cx="4667040" cy="32097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5"/>
          <p:cNvSpPr/>
          <p:nvPr/>
        </p:nvSpPr>
        <p:spPr>
          <a:xfrm>
            <a:off x="5029200" y="289548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docyt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in macromolecules, form new vesic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5029200" y="450864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ocyt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icles fuse with cell membrane, expel cont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" descr="07_22_Endocytosis-L.jpg"/>
          <p:cNvPicPr/>
          <p:nvPr/>
        </p:nvPicPr>
        <p:blipFill>
          <a:blip r:embed="rId1"/>
          <a:stretch/>
        </p:blipFill>
        <p:spPr>
          <a:xfrm>
            <a:off x="990720" y="1787400"/>
            <a:ext cx="7238880" cy="5070600"/>
          </a:xfrm>
          <a:prstGeom prst="rect">
            <a:avLst/>
          </a:prstGeom>
          <a:ln w="0">
            <a:noFill/>
          </a:ln>
        </p:spPr>
      </p:pic>
      <p:pic>
        <p:nvPicPr>
          <p:cNvPr id="301" name="Title 3" descr=""/>
          <p:cNvPicPr/>
          <p:nvPr/>
        </p:nvPicPr>
        <p:blipFill>
          <a:blip r:embed="rId2"/>
          <a:stretch/>
        </p:blipFill>
        <p:spPr>
          <a:xfrm>
            <a:off x="457200" y="73080"/>
            <a:ext cx="8308800" cy="11761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152280" y="9223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agocyto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eatin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sol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3429000" y="9223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nocyto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drinkin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flu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5867280" y="4983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eptor-Mediated Endocyto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ands bin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fic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cell surfa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2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embrane Transpor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7: Warm-Up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de A in a U tube has 5M sucrose and 3 M glucose. Side B has 2 M sucrose and 1 M glucose.  The membrane is permeable to glucose and water  only. What happens to each side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7: Warm-Up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de A in a U tube has 3 M sucrose and 1 M glucose. Side B has 1 M sucrose and 3 M glucose.  The membrane is permeable to glucose and water  only. What happens to each side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3" descr=""/>
          <p:cNvPicPr/>
          <p:nvPr/>
        </p:nvPicPr>
        <p:blipFill>
          <a:blip r:embed="rId1"/>
          <a:stretch/>
        </p:blipFill>
        <p:spPr>
          <a:xfrm>
            <a:off x="536400" y="-79200"/>
            <a:ext cx="7851960" cy="1834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160" y="17812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Membrane Structure and Function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5" descr="07_05PlasmaMembrane-L.jpg"/>
          <p:cNvPicPr/>
          <p:nvPr/>
        </p:nvPicPr>
        <p:blipFill>
          <a:blip r:embed="rId2"/>
          <a:stretch/>
        </p:blipFill>
        <p:spPr>
          <a:xfrm>
            <a:off x="304920" y="2971800"/>
            <a:ext cx="5638680" cy="3627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You Must Know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y membranes are selectively permeabl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role of phospholipids, proteins, and carbohydrates in membran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water will move if a cell is placed in an isotonic, hypertonic, or hypotonic solu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electrochemical gradients are form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Phospholipid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560" y="1687680"/>
            <a:ext cx="380988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lay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hydrophilic head, hydrophobic ta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phobic barrier: keeps hydrophilic molecules o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07_02PhospholipidBilayer-L.jpg"/>
          <p:cNvPicPr/>
          <p:nvPr/>
        </p:nvPicPr>
        <p:blipFill>
          <a:blip r:embed="rId1"/>
          <a:stretch/>
        </p:blipFill>
        <p:spPr>
          <a:xfrm>
            <a:off x="4038480" y="1600200"/>
            <a:ext cx="4889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Cell Membran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sma membrane is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selectively perme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ows some substances to cross more easily than oth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Fluid Mosaic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Constantia"/>
              </a:rPr>
              <a:t>Flui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membrane held together by weak inter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Constantia"/>
              </a:rPr>
              <a:t>Mosa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phospholipids, proteins, car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02:10:47Z</dcterms:created>
  <dc:creator>David title</dc:creator>
  <dc:description/>
  <dc:language>en-US</dc:language>
  <cp:lastModifiedBy>Roman-Wensing, Kayla</cp:lastModifiedBy>
  <dcterms:modified xsi:type="dcterms:W3CDTF">2016-09-13T13:51:10Z</dcterms:modified>
  <cp:revision>112</cp:revision>
  <dc:subject/>
  <dc:title>Plants - Reproduction</dc:title>
</cp:coreProperties>
</file>